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FC2-4095-4ED2-AD7D-19E0175D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868-1867-4E28-AD4A-2991EAD1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B4A-E1DC-4E41-9084-686E6136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5E0-10A1-4A85-81C3-95923FD0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675-5C72-4EE7-85E1-0D0B9709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FA4-793F-4B9F-9E4E-AF2947C3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CF4-BCB7-44DC-A8D8-17AFDB15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920-7006-47EB-ACF5-76CB95D5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29C-4F1D-40D7-8DAE-6BDA0D08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956-712D-4001-9BD9-ADCFDAD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EB7-F1C8-43BB-8130-08DBFB23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964-1786-481A-AE46-0AEABA32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63C-EF09-4366-AD9F-6F77D5EF3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17560" y="115920"/>
            <a:ext cx="56628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76500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43640" y="76500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5120" y="1438200"/>
            <a:ext cx="78883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Запишите какие могут быть остатки при де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138400"/>
            <a:ext cx="11206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2133720"/>
            <a:ext cx="11210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781360"/>
            <a:ext cx="372420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Выполните 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3362400"/>
            <a:ext cx="11206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9 :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3357720"/>
            <a:ext cx="11206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 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5680" y="4181400"/>
            <a:ext cx="8359560" cy="91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Запишите неполное частное и остаток из предыдуще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20800" y="47520"/>
            <a:ext cx="56563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6880" y="623880"/>
            <a:ext cx="222588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6880" y="623880"/>
            <a:ext cx="22255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12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Запишите делимое, делитель,  неполное частное и остаток из 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77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1 = 9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5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177336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5 = 8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6 +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397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Запишите делимое, делитель,  неполное частное и остаток из 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7005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3 = 4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7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88000" y="47005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 = 3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8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17560" y="115920"/>
            <a:ext cx="5662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ьте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94788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3640" y="94788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4590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Запишите какие могут быть остатки при де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440" y="2138400"/>
            <a:ext cx="11714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2131920"/>
            <a:ext cx="11210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27147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Выполните 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362400"/>
            <a:ext cx="11206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9 :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3359160"/>
            <a:ext cx="14810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 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221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Запишите неполное частное и остаток из предыдущего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2131920"/>
            <a:ext cx="17287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59640" y="2131920"/>
            <a:ext cx="17287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6920" y="3355920"/>
            <a:ext cx="17287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 (ост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0560" y="3355920"/>
            <a:ext cx="17290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 (ост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5300640"/>
            <a:ext cx="31165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полное частное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5300640"/>
            <a:ext cx="31165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полное частное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6021360"/>
            <a:ext cx="18716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аток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6021360"/>
            <a:ext cx="19432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аток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17560" y="44280"/>
            <a:ext cx="5662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роверьте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62064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620640"/>
            <a:ext cx="2232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12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Запишите делимое, делитель,  неполное частное и остаток из 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77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1 = 9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5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177336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5 = 8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6 +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360" y="2203560"/>
            <a:ext cx="19796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елимое: 5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360" y="3355920"/>
            <a:ext cx="24433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статок: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360" y="2779560"/>
            <a:ext cx="33116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неполное частное: 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93760" y="2203560"/>
            <a:ext cx="22622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елитель: 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00520" y="2203560"/>
            <a:ext cx="19796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елимое: 5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2203560"/>
            <a:ext cx="22622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елитель: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00520" y="3355920"/>
            <a:ext cx="24433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статок: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00520" y="2779560"/>
            <a:ext cx="33116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неполное частное: 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397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Запишите делимое, делитель,  неполное частное и остаток из 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47005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3 = 4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7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88000" y="47005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 = 3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8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5154480"/>
            <a:ext cx="19796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елимое: 3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307200"/>
            <a:ext cx="24429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статок: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5730840"/>
            <a:ext cx="33116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неполное частное: 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5154480"/>
            <a:ext cx="22622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елитель: 7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64160" y="5154480"/>
            <a:ext cx="19796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елимое: 2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5154480"/>
            <a:ext cx="22622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елитель: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6307200"/>
            <a:ext cx="24433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статок: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7440" y="5730840"/>
            <a:ext cx="331164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a3"/>
              </a:gs>
              <a:gs pos="50000">
                <a:srgbClr val="ffffff"/>
              </a:gs>
              <a:gs pos="100000">
                <a:srgbClr val="ffdaa3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неполное частное: 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7:04:39Z</dcterms:created>
  <dc:creator>Semen</dc:creator>
  <dc:description/>
  <dc:language>en-US</dc:language>
  <cp:lastModifiedBy>Valery</cp:lastModifiedBy>
  <dcterms:modified xsi:type="dcterms:W3CDTF">2007-10-31T07:42:19Z</dcterms:modified>
  <cp:revision>4</cp:revision>
  <dc:subject/>
  <dc:title>Слайд 1</dc:title>
</cp:coreProperties>
</file>